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8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116CF7-69E6-49CB-8E37-44366EB0E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n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the most abundant element in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n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the most abundant element in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trum line shift tells us the motion of a source (stars, galaxies, gas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trum line shift tells us the motion of a source (stars, galaxies, gas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 in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away observer (red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ward  ob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lue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 moving toward the observer, the spectral line will be shifted to a short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 away from the observer, the spectral line will be shifted to a long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 in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away observer (red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ward  ob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lue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 moving toward the observer, the spectral line will be shifted to a short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 away from the observer, the spectral line will be shifted to a long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and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ve change in wavelength is related to the source’s velo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and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ve change in wavelength is related to the source’s velo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over 3 billion solar masses of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hydrogen atoms so that the 21-cm line is easily detected by radio telesc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it is the best way to map the structur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over 3 billion solar masses of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hydrogen atoms so that the 21-cm line is easily detected by radio telesc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it is the best way to map the structur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Rotation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Richard Powell www.atlasoftheuniver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Rotation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Richard Powell www.atlasoftheuniver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emit a photon of light at a specif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when an electron falls to a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emit a photon of light at a specif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when an electron falls to a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dark line spectrum identifies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detected using a technique called spect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dark line spectrum identifies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detected using a technique called spect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ig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pectrum acts as is its signa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line will always appear in the sam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ig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pectrum acts as is its signa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line will always appear in the sam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only has only one electron spinning around its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just a spinning  electron have energy leve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only has only one electron spinning around its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just a spinning  electron have energy leve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spin energy of a hydrogen atom is slightly different depending on whether the spins of the proton and electron are in the same direction or opposite dir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spin energy of a hydrogen atom is slightly different depending on whether the spins of the proton and electron are in the same direction or opposite dir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pin of the electron changes from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level to  the lower energy o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n with a wavelength of 21 cm is e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from Nick Strobel’s website www.astronomynot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pin of the electron changes from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level to  the lower energy o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n with a wavelength of 21 cm is e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from Nick Strobel’s website www.astronomynot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1-cm Hydroge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1-cm Hydroge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can tell us whether the source is stationary or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, the spectral line will be shifted (called a Doppler shif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clo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can tell us whether the source is stationary or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, the spectral line will be shifted (called a Doppler shif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clo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F07C-BCA6-4003-A441-11FFA9ED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A97-2478-4EAF-B2A3-A90DF7FB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0B9-CDFD-4509-810F-4784AABF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CE4-D081-4750-907A-21DE066E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58C1E-E084-4816-AE08-EC278D2372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43303-CDB6-446D-8207-AF15C148EE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0327D-AB80-43FF-90F1-E684186E20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2CC72-D328-4C14-90D4-7E00EF57F3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9CB32-958A-4E69-8DCA-4DA98DD6E8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E62E5-39D6-4330-93CF-9E3C04284B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C7C79-D1B3-4F5B-A3CD-9E9660A336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E74-3466-469B-AADF-0BCC8117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BF195-2377-4329-AB0A-8232B144C3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05BAB-E333-4DB1-9EA8-6D5E729472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0AB82-72C8-4AFA-93D5-BCC8AE43BA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EAE4D-7D93-4229-9814-0C931DC269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BB616-0FD2-4DBF-A3AA-C9AE2CD37E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90CBDB-3890-4156-BAFD-731E3D8F7E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D10031-A61E-497C-9332-21FDA1A1E8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033D18-CAC0-4FA5-BBFA-870DC9E456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6DFD1A-78E6-4953-AF7E-9BC3E754FE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0FD1B3-EB4C-4A60-8DAF-0D02AB2B73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7A1-2A65-49E1-B175-FA9C7918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625144-B2AB-4405-BAD9-AE6A639336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907D4D-97A3-4EE7-920F-BA1A421555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55597A-79E3-40F0-B156-AFAF90C518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0476A-9A57-4376-8668-EDDE3B91D2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B2000A-C88D-41EF-9BD3-6F23AC4CE2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F16B28-C70D-40E2-AC0A-208660343E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13F372-2039-4E67-BA9A-F1EDB972F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316-BA30-4531-8AF1-2F51D817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0736-6FB5-448D-859E-56E7AE1A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F67-C0A1-4C8A-8B69-048B3D54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D2E-9272-43F9-9FF4-2E82D0B2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B65E-1DC5-4211-969F-3D8DA869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25D-3A70-4DDA-94A5-9CA9F228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429D-2A66-4182-A321-5B137159A320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1828800" y="6248160"/>
            <a:ext cx="5486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B6F2-64F3-4F3A-A337-2CE2E1C636D9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046F-BA23-48B0-91AC-060C44577A29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510/allskymilkyway_brunier_b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Hydrogen in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is the most abundant element in our galax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743200"/>
            <a:ext cx="4944960" cy="32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trum line shift tells us the motion of a source (stars, galaxies, gases,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3" descr="doppler_anim2"/>
          <p:cNvPicPr/>
          <p:nvPr/>
        </p:nvPicPr>
        <p:blipFill>
          <a:blip r:embed="rId1"/>
          <a:stretch/>
        </p:blipFill>
        <p:spPr>
          <a:xfrm>
            <a:off x="1676520" y="1676520"/>
            <a:ext cx="5562360" cy="404496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hift in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4648320" y="1324080"/>
          <a:ext cx="388620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24080"/>
                    <a:ext cx="3886200" cy="1571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Object 5"/>
          <p:cNvGraphicFramePr/>
          <p:nvPr/>
        </p:nvGraphicFramePr>
        <p:xfrm>
          <a:off x="4648320" y="4572000"/>
          <a:ext cx="3886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572000"/>
                    <a:ext cx="388620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4648320" y="2971800"/>
          <a:ext cx="388620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71800"/>
                    <a:ext cx="3886200" cy="1523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Text Box 7"/>
          <p:cNvSpPr/>
          <p:nvPr/>
        </p:nvSpPr>
        <p:spPr>
          <a:xfrm>
            <a:off x="6818760" y="1981080"/>
            <a:ext cx="127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858000" y="4572000"/>
            <a:ext cx="1600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way observer (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248520" y="3048120"/>
            <a:ext cx="2209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 toward  ob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lue</a:t>
            </a:r>
            <a:r>
              <a:rPr b="1" lang="en-US" sz="18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war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observer, the spectral line will be shifted to a 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short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rom the observer, the spectral line will be shifted to a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ong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Wavelength and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he relative change in wavelength is related to the sour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 velocit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724280" y="1600200"/>
          <a:ext cx="327672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276720" cy="138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1" name="Object 5"/>
          <p:cNvGraphicFramePr/>
          <p:nvPr/>
        </p:nvGraphicFramePr>
        <p:xfrm>
          <a:off x="4724280" y="3124080"/>
          <a:ext cx="327672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24080"/>
                    <a:ext cx="3276720" cy="140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4724280" y="4724280"/>
          <a:ext cx="3276720" cy="14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724280"/>
                    <a:ext cx="3276720" cy="1432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5" name="Text Box 7"/>
          <p:cNvSpPr/>
          <p:nvPr/>
        </p:nvSpPr>
        <p:spPr>
          <a:xfrm>
            <a:off x="6387840" y="1828800"/>
            <a:ext cx="137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181480" y="327672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257800" y="480060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31320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xample: Rotation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Galaxy rotation and Doppler shifts"/>
          <p:cNvPicPr/>
          <p:nvPr/>
        </p:nvPicPr>
        <p:blipFill>
          <a:blip r:embed="rId1"/>
          <a:stretch/>
        </p:blipFill>
        <p:spPr>
          <a:xfrm>
            <a:off x="5257800" y="2179800"/>
            <a:ext cx="3098880" cy="338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5" name=""/>
          <p:cNvSpPr txBox="1"/>
          <p:nvPr/>
        </p:nvSpPr>
        <p:spPr>
          <a:xfrm>
            <a:off x="4648320" y="114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milkyway"/>
          <p:cNvPicPr/>
          <p:nvPr/>
        </p:nvPicPr>
        <p:blipFill>
          <a:blip r:embed="rId2"/>
          <a:stretch/>
        </p:blipFill>
        <p:spPr>
          <a:xfrm>
            <a:off x="1066680" y="1905120"/>
            <a:ext cx="3784680" cy="378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Picture 13" descr="Program Graphic"/>
          <p:cNvPicPr/>
          <p:nvPr/>
        </p:nvPicPr>
        <p:blipFill>
          <a:blip r:embed="rId3"/>
          <a:stretch/>
        </p:blipFill>
        <p:spPr>
          <a:xfrm>
            <a:off x="609480" y="4724280"/>
            <a:ext cx="25146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Slide Number Placeholder 8"/>
          <p:cNvSpPr/>
          <p:nvPr/>
        </p:nvSpPr>
        <p:spPr>
          <a:xfrm>
            <a:off x="6705720" y="6248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3048120" y="533412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Image from Richard Powell www.atlasoftheuniver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lectronic Energy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45943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emit a photon of light at a speci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velength when an electron falls to a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Bohratommodel"/>
          <p:cNvPicPr/>
          <p:nvPr/>
        </p:nvPicPr>
        <p:blipFill>
          <a:blip r:embed="rId1"/>
          <a:stretch/>
        </p:blipFill>
        <p:spPr>
          <a:xfrm>
            <a:off x="2895480" y="1447920"/>
            <a:ext cx="32004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sulting dark line spectrum identifies hydr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g23_spectroscope"/>
          <p:cNvPicPr/>
          <p:nvPr/>
        </p:nvPicPr>
        <p:blipFill>
          <a:blip r:embed="rId1"/>
          <a:srcRect l="0" t="0" r="0" b="11437"/>
          <a:stretch/>
        </p:blipFill>
        <p:spPr>
          <a:xfrm>
            <a:off x="1600200" y="1905120"/>
            <a:ext cx="558468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ydrogen is detected using a technique called spectroscop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n Element’s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457200" y="457200"/>
            <a:ext cx="41148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533520" y="1523880"/>
            <a:ext cx="807696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element’s spectrum acts as is its signatur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line will always appear in the same lo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8" descr="EL_MSES_StarSpectra4"/>
          <p:cNvPicPr/>
          <p:nvPr/>
        </p:nvPicPr>
        <p:blipFill>
          <a:blip r:embed="rId1"/>
          <a:stretch/>
        </p:blipFill>
        <p:spPr>
          <a:xfrm>
            <a:off x="2286000" y="3048120"/>
            <a:ext cx="4302000" cy="30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4496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only has only one electron spinning around its nucle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ow can just a spinning  electron have energy level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ydrogen atom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32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9" descr="Key to atom parts"/>
          <p:cNvPicPr/>
          <p:nvPr/>
        </p:nvPicPr>
        <p:blipFill>
          <a:blip r:embed="rId2"/>
          <a:stretch/>
        </p:blipFill>
        <p:spPr>
          <a:xfrm>
            <a:off x="4876920" y="4678200"/>
            <a:ext cx="3962160" cy="8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electron spin energy of a hydrogen atom is slightly different depending on whether the spins of the proton and electron are in the same direction or opposite direction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kauf25_10"/>
          <p:cNvPicPr/>
          <p:nvPr/>
        </p:nvPicPr>
        <p:blipFill>
          <a:blip r:embed="rId1"/>
          <a:srcRect l="1775" t="0" r="0" b="7016"/>
          <a:stretch/>
        </p:blipFill>
        <p:spPr>
          <a:xfrm>
            <a:off x="4800600" y="1600200"/>
            <a:ext cx="42228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Text Box 4"/>
          <p:cNvSpPr/>
          <p:nvPr/>
        </p:nvSpPr>
        <p:spPr>
          <a:xfrm>
            <a:off x="1219320" y="525780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pin of the electron changes fro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energy level to  the lower energy o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hoton with a wavelength of 21 cm is e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pinflip-anim"/>
          <p:cNvPicPr/>
          <p:nvPr/>
        </p:nvPicPr>
        <p:blipFill>
          <a:blip r:embed="rId1"/>
          <a:stretch/>
        </p:blipFill>
        <p:spPr>
          <a:xfrm>
            <a:off x="1828800" y="3505320"/>
            <a:ext cx="5392800" cy="26305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561760" y="5943600"/>
            <a:ext cx="40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Animation from Nick Strobel’s website www.astronomynot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 21-cm Hydroge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6448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pectral Lines and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ral lines can tell us whether the source is stationary or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ource is moving, the spectral line will be shifted (called a Doppler shi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200c"/>
          <p:cNvPicPr/>
          <p:nvPr/>
        </p:nvPicPr>
        <p:blipFill>
          <a:blip r:embed="rId1"/>
          <a:srcRect l="1816" t="5231" r="3674" b="599"/>
          <a:stretch/>
        </p:blipFill>
        <p:spPr>
          <a:xfrm>
            <a:off x="3733920" y="3492360"/>
            <a:ext cx="411480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Text Box 11"/>
          <p:cNvSpPr/>
          <p:nvPr/>
        </p:nvSpPr>
        <p:spPr>
          <a:xfrm>
            <a:off x="647640" y="3873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09480" y="463536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609480" y="55497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c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11:22Z</dcterms:created>
  <dc:creator>S. Daniel Daugherty II</dc:creator>
  <dc:description/>
  <dc:language>en-US</dc:language>
  <cp:lastModifiedBy>Legion</cp:lastModifiedBy>
  <dcterms:modified xsi:type="dcterms:W3CDTF">2017-01-26T10:08:36Z</dcterms:modified>
  <cp:revision>33</cp:revision>
  <dc:subject/>
  <dc:title>Hydrogen in the Milky Way</dc:title>
</cp:coreProperties>
</file>